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35E-C7D7-43F5-942E-61BF5AD4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D38-39FC-45F9-ABC5-E8B9DF99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F07-AB2A-49A3-93D4-8512F772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2EC-3CC7-49BD-A3A5-B4342C54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CBE-DDC9-4C88-8EBE-095A0A0E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30A-850A-4B9A-A758-B1CED3E6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D8E-40C6-49E2-8C0D-BFB58F3D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7C1-74E0-4A8D-B28F-B38AEAD4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FB4-B04C-48EF-8016-B3322027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533-3ABA-4C29-AD39-8A557EDE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E4F-2D8A-4F7C-A953-E4B86FFE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FB6-95FB-4C7C-8103-9AE051A8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F669-D8C1-46BF-993F-DF17B2259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324000" y="1628640"/>
            <a:ext cx="8569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395280" y="2852640"/>
            <a:ext cx="8497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395280" y="3573360"/>
            <a:ext cx="842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468360" y="2205000"/>
            <a:ext cx="842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6:41:08Z</dcterms:created>
  <dc:creator>User</dc:creator>
  <dc:description/>
  <dc:language>en-US</dc:language>
  <cp:lastModifiedBy>Lau</cp:lastModifiedBy>
  <dcterms:modified xsi:type="dcterms:W3CDTF">2009-02-03T13:20:06Z</dcterms:modified>
  <cp:revision>12</cp:revision>
  <dc:subject/>
  <dc:title>Diapositiva 1</dc:title>
</cp:coreProperties>
</file>