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BADF-6766-48E3-9C86-EFBFF544E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65DC-C4B9-4FBA-BFB2-D4B5C0CF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A2AE-34E6-4578-AA8C-68A59CF5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59ED-E688-4E72-A451-6471CFAE5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1328-D515-4C62-B1A4-CE381CCF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6ADA-6126-4122-BEFA-12D07B8D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7D70-6AE4-475A-AD2E-ED942E42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281E-06A9-4546-B4D1-21FA0C3F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C467-101A-40B9-805F-26859F9B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688A-D52F-48B4-AA02-6A6C02D4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820C-92C4-494A-B273-9D5E6ABE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706F-984B-4F5B-A376-B4C8DEED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387D-6A9F-4CD3-AF07-374BCA9CE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752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5280" y="1557360"/>
            <a:ext cx="842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2205000"/>
            <a:ext cx="8496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2781360"/>
            <a:ext cx="83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4149720"/>
            <a:ext cx="84960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4724280"/>
            <a:ext cx="849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5445000"/>
            <a:ext cx="849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6093000"/>
            <a:ext cx="849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3500280"/>
            <a:ext cx="842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395280" y="1557360"/>
            <a:ext cx="84978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324000" y="2205000"/>
            <a:ext cx="8569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4" action="ppaction://hlinksldjump"/>
          </p:cNvPr>
          <p:cNvSpPr/>
          <p:nvPr/>
        </p:nvSpPr>
        <p:spPr>
          <a:xfrm>
            <a:off x="395280" y="2781360"/>
            <a:ext cx="8424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5" action="ppaction://hlinksldjump"/>
          </p:cNvPr>
          <p:cNvSpPr/>
          <p:nvPr/>
        </p:nvSpPr>
        <p:spPr>
          <a:xfrm>
            <a:off x="324000" y="3429000"/>
            <a:ext cx="856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" y="3240"/>
            <a:ext cx="91407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31T17:47:38Z</dcterms:created>
  <dc:creator>User</dc:creator>
  <dc:description/>
  <dc:language>en-US</dc:language>
  <cp:lastModifiedBy>Lau</cp:lastModifiedBy>
  <dcterms:modified xsi:type="dcterms:W3CDTF">2009-02-03T13:22:08Z</dcterms:modified>
  <cp:revision>49</cp:revision>
  <dc:subject/>
  <dc:title>Diapositiva 1</dc:title>
</cp:coreProperties>
</file>