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719-A9FF-4EDE-8359-AAAC46D5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A39-D134-4A8E-99F4-735CF19D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81D-2CEB-4697-9291-37319108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A32-7FF2-43FF-9D7F-16B48B5F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FA4-6678-4155-9879-771C5438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393-F7ED-4FB0-AF91-B5417C64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A8D-C835-4B04-A8D1-7871E516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DBA-A541-44B4-AEF8-077D77CF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923-9A78-4ADA-B46C-61D69DAB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63B-BDF3-4007-9FB2-AB91B5E3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952-3B2B-4346-9E06-3376D10D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FD2-AB7D-4F21-A2F8-226A04FE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8934-BE1D-4AA6-9E1B-8A0903264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395280" y="1557360"/>
            <a:ext cx="84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324000" y="2205000"/>
            <a:ext cx="8496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6:41:08Z</dcterms:created>
  <dc:creator>User</dc:creator>
  <dc:description/>
  <dc:language>en-US</dc:language>
  <cp:lastModifiedBy>Lau</cp:lastModifiedBy>
  <dcterms:modified xsi:type="dcterms:W3CDTF">2009-02-03T13:32:47Z</dcterms:modified>
  <cp:revision>23</cp:revision>
  <dc:subject/>
  <dc:title>Diapositiva 1</dc:title>
</cp:coreProperties>
</file>