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55D-F138-4004-8A27-4F4472BC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018-1A3E-4BDB-AE02-5FF49280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8AE-4179-4D1D-BA89-F97C95B2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E63-69DB-417C-B418-770E64DE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918-4B3B-4C1C-836A-F0E6FAAB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787-FD4A-4126-B240-F09C2981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D69-CAAB-4829-8E88-7AD33558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A23-3E18-47BC-9390-B0546117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108-C1AF-4708-A3CD-2104AD66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D71-6A86-4D84-B381-229DF3B0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DDB-F72B-4E14-88A5-6469AC7D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0EA-9EE7-4E3D-8AB5-A59C7724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9FDF-3697-40E7-B44F-DB024309A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628640"/>
            <a:ext cx="8569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4221000"/>
            <a:ext cx="8497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2852640"/>
            <a:ext cx="8497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573360"/>
            <a:ext cx="8424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797360"/>
            <a:ext cx="8497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468360" y="2205000"/>
            <a:ext cx="8424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5445000"/>
            <a:ext cx="849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6093000"/>
            <a:ext cx="8569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375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6:41:08Z</dcterms:created>
  <dc:creator>User</dc:creator>
  <dc:description/>
  <dc:language>en-US</dc:language>
  <cp:lastModifiedBy>MER</cp:lastModifiedBy>
  <dcterms:modified xsi:type="dcterms:W3CDTF">2009-02-03T13:43:27Z</dcterms:modified>
  <cp:revision>22</cp:revision>
  <dc:subject/>
  <dc:title>Diapositiva 1</dc:title>
</cp:coreProperties>
</file>