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927-62DF-4A00-B861-50677D6F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329-10DB-4810-A89E-AB1830C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AB8-3372-4273-8F84-A9319E64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5F9-5460-4007-A655-4002A9B3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FA8-153C-4BE4-80F3-1FCCA1D4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A40-095C-480A-880E-1772534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8E7-0AD4-4FBC-939F-F7FEC45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233-E6D4-4DCC-9F43-8CDA41A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AAE-ED05-4272-BC9D-D3BDF0F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FDA-24D3-4870-96FE-3B94040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B97-6C49-4F94-85AE-6937326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E4B-CE7E-47F8-B3E6-07D8337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8E8-B1C2-41E4-B517-81C73240F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55736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205000"/>
            <a:ext cx="467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854440"/>
            <a:ext cx="432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540240"/>
            <a:ext cx="5184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716280"/>
            <a:ext cx="4321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149720"/>
            <a:ext cx="345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97360"/>
            <a:ext cx="511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395280" y="5445000"/>
            <a:ext cx="525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Lau</cp:lastModifiedBy>
  <dcterms:modified xsi:type="dcterms:W3CDTF">2009-01-30T21:13:17Z</dcterms:modified>
  <cp:revision>29</cp:revision>
  <dc:subject/>
  <dc:title>Diapositiva 1</dc:title>
</cp:coreProperties>
</file>