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8DAE-2308-4824-A582-3AB82DEAC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9E26-5605-4C63-9214-3F099B707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78F9-77E3-4C48-87B6-E9AFB99A0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D5B0-2936-42C6-989F-4ECB7B3ED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C01C-9C1D-4534-8EDD-2BBD5E16A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2CBC-F821-42B4-A71A-79AFD8813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3EF9-AF3A-4F90-A9A1-DE145A8BB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C20B-27AE-458D-8D01-56729AEC4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2E57-D903-4482-8FB3-FC83E674C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0619-5FC9-4405-96DE-662BBA1B0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0C9D-F83B-4549-9F56-1A9671FC2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3316-B4BB-431B-AF71-6E5F0AC92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8E89A-7FBF-4E89-9644-EC46012894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42" name="">
            <a:hlinkClick r:id="rId2" action="ppaction://hlinksldjump"/>
          </p:cNvPr>
          <p:cNvSpPr/>
          <p:nvPr/>
        </p:nvSpPr>
        <p:spPr>
          <a:xfrm>
            <a:off x="395280" y="2205000"/>
            <a:ext cx="8569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>
            <a:hlinkClick r:id="rId3" action="ppaction://hlinksldjump"/>
          </p:cNvPr>
          <p:cNvSpPr/>
          <p:nvPr/>
        </p:nvSpPr>
        <p:spPr>
          <a:xfrm>
            <a:off x="324000" y="1557360"/>
            <a:ext cx="85690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1T16:41:08Z</dcterms:created>
  <dc:creator>User</dc:creator>
  <dc:description/>
  <dc:language>en-US</dc:language>
  <cp:lastModifiedBy>Lau</cp:lastModifiedBy>
  <dcterms:modified xsi:type="dcterms:W3CDTF">2009-02-03T13:16:07Z</dcterms:modified>
  <cp:revision>7</cp:revision>
  <dc:subject/>
  <dc:title>Diapositiva 1</dc:title>
</cp:coreProperties>
</file>