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E979-34C0-48DB-8BFD-474B2EEE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9DA-3E29-4EF0-9760-9D7B52CA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E8A-3101-4547-B95B-CFFA8A45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8D07-7D84-4AB7-BA42-989B119F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2B9-775D-4807-88BE-CF92145E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B1E2-343F-4C8D-BBCD-42721E6B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D9D-8896-4CAC-98B8-4E2E541A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612-5E5C-480C-853E-209289AB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BBC-1A8F-4631-85CC-EEF66168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681-9CBD-4843-9D98-7AB6CF2C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69A-F69F-484C-ADDE-C37FD32C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D46-67B8-448D-AAD4-F1E951FE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194E-25F5-44E8-8598-B6165EF29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395280" y="1557360"/>
            <a:ext cx="842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324000" y="2205000"/>
            <a:ext cx="8496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395280" y="278136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324000" y="4149720"/>
            <a:ext cx="8496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324000" y="4724280"/>
            <a:ext cx="849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95280" y="3500280"/>
            <a:ext cx="842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6:41:08Z</dcterms:created>
  <dc:creator>User</dc:creator>
  <dc:description/>
  <dc:language>en-US</dc:language>
  <cp:lastModifiedBy>Lau</cp:lastModifiedBy>
  <dcterms:modified xsi:type="dcterms:W3CDTF">2009-02-03T13:31:53Z</dcterms:modified>
  <cp:revision>21</cp:revision>
  <dc:subject/>
  <dc:title>Diapositiva 1</dc:title>
</cp:coreProperties>
</file>