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EF3-BC9F-4160-9379-7BFE509F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D16-E0E6-4FCA-BE37-314CB7E2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BDC-604E-420E-B3EF-0DD7BF15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EE4-9C39-4680-B350-8B057D37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A22-C8BF-4B35-9B9F-8C37116D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D92-D61F-4EF3-A3F2-E6027B18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2A3-8E8E-4A5B-A7B6-3414C119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8EE-374B-4A87-9026-2E7AB22A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3F0-DEBA-4B4B-AC60-932FC6B0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259-A5BB-46C0-9545-C271BCB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E8F-3D21-4768-9084-E1BBCAD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4DF-7E40-461C-9793-677A1F9C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CE34-3A0A-4B8F-A85E-96781FB85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4.CAUDAL/CAUDAL.ppt" TargetMode="External"/><Relationship Id="rId3" Type="http://schemas.openxmlformats.org/officeDocument/2006/relationships/hyperlink" Target="file:///5.CONTROLES/CONTROLES.ppt" TargetMode="External"/><Relationship Id="rId4" Type="http://schemas.openxmlformats.org/officeDocument/2006/relationships/hyperlink" Target="file:///9.SERVOVALVULAS/servovalvulas.ppt" TargetMode="External"/><Relationship Id="rId5" Type="http://schemas.openxmlformats.org/officeDocument/2006/relationships/hyperlink" Target="file:///10.ACTUADORES/actuadores.ppt" TargetMode="External"/><Relationship Id="rId6" Type="http://schemas.openxmlformats.org/officeDocument/2006/relationships/hyperlink" Target="file:///11.ACCESORIOS/accesorios.ppt" TargetMode="External"/><Relationship Id="rId7" Type="http://schemas.openxmlformats.org/officeDocument/2006/relationships/hyperlink" Target="file:///8.CNTRL%20ELECTROHIDRAULICO/CNTRL_ELECTROHIDRAULICO.ppt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55760"/>
            <a:ext cx="9144000" cy="73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1700280"/>
            <a:ext cx="6912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2560" y="2133720"/>
            <a:ext cx="2809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56536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826920" y="3068640"/>
            <a:ext cx="324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/>
          </p:cNvPr>
          <p:cNvSpPr/>
          <p:nvPr/>
        </p:nvSpPr>
        <p:spPr>
          <a:xfrm>
            <a:off x="755640" y="3429000"/>
            <a:ext cx="3602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93228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2560" y="4438800"/>
            <a:ext cx="3457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/>
          </p:cNvPr>
          <p:cNvSpPr/>
          <p:nvPr/>
        </p:nvSpPr>
        <p:spPr>
          <a:xfrm>
            <a:off x="684360" y="5302080"/>
            <a:ext cx="2374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5"/>
          </p:cNvPr>
          <p:cNvSpPr/>
          <p:nvPr/>
        </p:nvSpPr>
        <p:spPr>
          <a:xfrm>
            <a:off x="684360" y="5734080"/>
            <a:ext cx="208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6"/>
          </p:cNvPr>
          <p:cNvSpPr/>
          <p:nvPr/>
        </p:nvSpPr>
        <p:spPr>
          <a:xfrm>
            <a:off x="684360" y="6165720"/>
            <a:ext cx="2374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7"/>
          </p:cNvPr>
          <p:cNvSpPr/>
          <p:nvPr/>
        </p:nvSpPr>
        <p:spPr>
          <a:xfrm>
            <a:off x="755640" y="486900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8:40:40Z</dcterms:created>
  <dc:creator>User</dc:creator>
  <dc:description/>
  <dc:language>en-US</dc:language>
  <cp:lastModifiedBy>io</cp:lastModifiedBy>
  <dcterms:modified xsi:type="dcterms:W3CDTF">2009-10-07T16:59:45Z</dcterms:modified>
  <cp:revision>11</cp:revision>
  <dc:subject/>
  <dc:title>Diapositiva 1</dc:title>
</cp:coreProperties>
</file>