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984-A7C8-459A-B14C-61B31662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2C5-D1A4-4056-BD3D-08A5B8BC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739-D166-43C8-B2A0-E36D9DE1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713-F722-40C8-88D7-A766CFE2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683-6171-4AB3-8476-DA14AFB1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D25-8750-4718-9543-768EA4D5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5E2-A099-4EDB-8D73-9AB95662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307-78BA-44ED-82A1-4808DDBF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57C-7C32-4878-BFBB-3DA7CA34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99C-C72D-47D2-AE87-C26BA2A1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2EE-B239-426F-8427-2734296B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615-B45D-4A5C-8E03-E871F7EA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6210-CAF1-4A7E-B05B-61C5331B3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08000" y="2060640"/>
            <a:ext cx="874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81080" y="2637000"/>
            <a:ext cx="856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324000" y="3284640"/>
            <a:ext cx="84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2360" y="3933720"/>
            <a:ext cx="849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324000" y="4581360"/>
            <a:ext cx="842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95280" y="5877000"/>
            <a:ext cx="835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17:47:38Z</dcterms:created>
  <dc:creator>User</dc:creator>
  <dc:description/>
  <dc:language>en-US</dc:language>
  <cp:lastModifiedBy>MER</cp:lastModifiedBy>
  <dcterms:modified xsi:type="dcterms:W3CDTF">2009-02-03T20:44:42Z</dcterms:modified>
  <cp:revision>26</cp:revision>
  <dc:subject/>
  <dc:title>Diapositiva 1</dc:title>
</cp:coreProperties>
</file>