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75E-3ED3-452F-B9DB-44A9F06C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1FE-51C9-4CC3-B137-D686E841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DFC-BDBC-4123-AC26-9B1DDE97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BFC-9EE2-42A6-8092-17F9D87D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DAC-EFD2-43BB-BC5A-2AEBAF1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EBD-C8B4-46E9-8904-3BED7EA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ED7-BB49-4731-A436-EC9281CB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584-2FC4-4CCB-856A-608FD6E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5EE-7227-417F-B4B6-5E577111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D0E-A806-40A5-A013-575A1017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AE1-5D5E-4020-BC0A-0FC89D70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E94-CCA6-4488-BB8B-84E8AB6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343-6A93-47CA-ADD8-C9475C85F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162864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133720"/>
            <a:ext cx="842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637000"/>
            <a:ext cx="842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1417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645000"/>
            <a:ext cx="8353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149720"/>
            <a:ext cx="828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24280"/>
            <a:ext cx="835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15772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395280" y="573408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395280" y="6237360"/>
            <a:ext cx="828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Lau</cp:lastModifiedBy>
  <dcterms:modified xsi:type="dcterms:W3CDTF">2009-02-03T13:52:20Z</dcterms:modified>
  <cp:revision>26</cp:revision>
  <dc:subject/>
  <dc:title>Diapositiva 1</dc:title>
</cp:coreProperties>
</file>