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FE1-2AF5-438F-A17E-22546CA1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C14-337D-47FB-8228-565F40ED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685-FEF7-48B9-8539-E02B5A6B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BEB-499A-426A-BF8B-49C1ECEE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CBD-194A-4309-97C5-2088A5ED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536-9C7C-4B9B-AF30-8CD51F71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61F-998E-488B-BFEC-EED1D03C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417-0449-4CAD-8C15-01C4D588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AF1-EE84-4F8C-8BD5-028ED42D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0C5-5244-4ED8-9D62-6CEB09E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950-B0F5-41CD-9225-3C6F5110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C7A-B392-4A66-AED8-F243994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8500-7125-4443-83D8-7FDBF7D46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6.xm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155736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06208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638440"/>
            <a:ext cx="842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95280" y="3613320"/>
            <a:ext cx="8424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95280" y="4149720"/>
            <a:ext cx="8497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324000" y="4653000"/>
            <a:ext cx="85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324000" y="5157720"/>
            <a:ext cx="849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395280" y="3141720"/>
            <a:ext cx="8497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56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628640"/>
            <a:ext cx="849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133720"/>
            <a:ext cx="8424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63700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213000"/>
            <a:ext cx="835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71628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22100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7:47:38Z</dcterms:created>
  <dc:creator>User</dc:creator>
  <dc:description/>
  <dc:language>en-US</dc:language>
  <cp:lastModifiedBy>Lau</cp:lastModifiedBy>
  <dcterms:modified xsi:type="dcterms:W3CDTF">2009-02-03T13:57:40Z</dcterms:modified>
  <cp:revision>42</cp:revision>
  <dc:subject/>
  <dc:title>Diapositiva 1</dc:title>
</cp:coreProperties>
</file>