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C16B-1587-4CEB-96B2-3BAF92381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0D57-67C7-49A7-A2E9-C512DF48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4572-E004-49DF-88A6-9D3F9A50A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F36A-0FD1-4BDA-8B86-BAF4F3B8C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9644-2A45-4B6E-A080-41B3CF3F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8FAE-16C2-423E-8CD5-C6F35EA3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3AA0-C2F6-4871-896A-F7AB126E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0430-E95B-46C5-8339-7B2239E0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C0B6-2318-4271-ABCE-96CDD680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86D2-C43F-404A-AD66-8ED1CE45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92D4-FE7F-4854-97BE-3909BAD3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68EB-9A27-4213-A29E-47BEF725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59EB-CB4D-498F-95E8-36822C921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250920" y="3755880"/>
            <a:ext cx="92851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0920" y="1844640"/>
            <a:ext cx="8497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2492280"/>
            <a:ext cx="842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3141720"/>
            <a:ext cx="8467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4292640"/>
            <a:ext cx="842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5013360"/>
            <a:ext cx="842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5661000"/>
            <a:ext cx="8569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3720960"/>
            <a:ext cx="842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31T17:47:38Z</dcterms:created>
  <dc:creator>User</dc:creator>
  <dc:description/>
  <dc:language>en-US</dc:language>
  <cp:lastModifiedBy>Lau</cp:lastModifiedBy>
  <dcterms:modified xsi:type="dcterms:W3CDTF">2009-02-03T13:48:55Z</dcterms:modified>
  <cp:revision>23</cp:revision>
  <dc:subject/>
  <dc:title>Diapositiva 1</dc:title>
</cp:coreProperties>
</file>